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9CF-D469-4F8A-8672-496FF3A5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7B4-C69E-4E9A-8275-F54145CD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6AE-A5AC-438F-87FC-107F3BEB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81C-8C28-4929-B804-F3A13E46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58B9-A8D6-477E-AD26-3D77EF53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720D-39AD-42B7-BFE9-92AD8D99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E806-331B-4BB6-A467-01B91F5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88D3-B86E-4F9A-AEFE-42D40C64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18DE-5D03-4C90-BE6B-2DFDDEA3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1D55-B07C-45BF-B43C-A258A448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DCF4-BE13-4510-B3BA-46A577A9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91C-1603-4275-AA0B-C0CE6A25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7A66-036B-40FB-BF48-FB2B7A1A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D730-5C82-4B6B-A17D-E7303BC5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3FDF-79CA-48CB-A96A-FED96527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B1A-4725-4EB5-B977-A1433136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D511-935A-4E2C-95B1-81652326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239-9624-4264-AEB7-B6E7DDE1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7B8-2F3B-47BF-95F0-6AED4485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252-40B2-4A96-AE78-B93169B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9C1-E779-45A8-9CF4-75460087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093-FC1F-4958-9FD1-B3DEE92C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F10-8218-49E0-BD3B-A099842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106-06CF-4E01-84FD-61EA26D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684A-BBBC-4765-ABE0-ACB1534AB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CBB4-01EB-4E11-9773-779C257C0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2720" y="5335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0666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161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   As   jazidas,   minas   e   demais  recursos minerais  e  os  potenciais  de  energia  hidráulica  constituem propriedade distinta da do solo para o efeito de exploração ou  aproveitamento industrial.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§ 1º -   A  exploração   e  o  aproveitamento  das  jazidas, minas e demais recursos minerais e dos potenciais de energia hidráulica dependem de autorização ou concessão federal, na forma   da   lei,   dada   exclusivamente   a   brasileiros   ou   a sociedades organizadas no País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143000"/>
            <a:ext cx="855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§ 2º - É   assegurada    ao     proprietário   do   solo  a, participação  nos  resultados,   da  lavra;  quanto às jazidas e minas  cuja  exploração  constituir  monopólio  da União, a lei regulará a forma da indenização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§ 3º - A participação referida no parágrafo anterior será igual ao dízimo do imposto único sobre minerais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§ 4º - Não dependerá de autorização ou concessão o aproveitamento de energia hidráulica de potência reduzida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na Salett</cp:lastModifiedBy>
  <dcterms:modified xsi:type="dcterms:W3CDTF">2004-08-10T21:33:53Z</dcterms:modified>
  <cp:revision>76</cp:revision>
  <dc:subject/>
  <dc:title>Apresentação do PowerPoint</dc:title>
</cp:coreProperties>
</file>